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TYPE.WAV" ContentType="audio/x-wav"/>
  <Override PartName="/ppt/media/image8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782-383C-4E04-AD6A-0F90B874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6EA-1AA2-47CD-838F-D4601B03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6B4-7BB2-43DA-89F7-969CAA4E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ABC-FBF5-471A-9DF5-0836ED25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7F5-2783-412C-AC94-2F14EEE0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D9C-5418-47D8-A92D-2A79705F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C5F-337B-4E54-962A-FB5FCBA8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CA5-5557-4BE6-B992-43B49C67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712-A594-4B84-A6AD-85A193F0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A34-9B6D-4F05-95DE-79DE4975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D60-83F5-4094-A81D-2D748829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285-8697-4129-95A1-E621B4D8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228600"/>
            <a:ext cx="2438280" cy="662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2438280" cy="2286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438280" y="0"/>
            <a:ext cx="6704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777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0080" y="66279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629400"/>
            <a:ext cx="2438280" cy="2271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0080" y="6626160"/>
            <a:ext cx="67039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5333760" y="66276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183B-2DDD-4371-B8B0-70FDEA58489F}" type="datetime3">
              <a:rPr b="0" lang="en-US" sz="1000" spc="-1" strike="noStrike">
                <a:solidFill>
                  <a:srgbClr val="ff0033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2438280" y="66276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33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7238880" y="6627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6C13-184C-44DC-8333-076D1CDA7BBA}" type="slidenum">
              <a:rPr b="0" lang="en-US" sz="1000" spc="-1" strike="noStrike">
                <a:solidFill>
                  <a:srgbClr val="ff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866960" y="66657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00360" y="664200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304920" y="6667560"/>
            <a:ext cx="171360" cy="166680"/>
          </a:xfrm>
          <a:prstGeom prst="diamond">
            <a:avLst/>
          </a:prstGeom>
          <a:solidFill>
            <a:srgbClr val="0066ff"/>
          </a:solidFill>
          <a:ln cap="sq"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3840" y="6637320"/>
            <a:ext cx="152280" cy="2095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423720" y="6657840"/>
            <a:ext cx="795600" cy="18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1262160" y="6659640"/>
            <a:ext cx="669960" cy="18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harge Transfer Multiplet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06668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Introduction: Why Charge transfer and Multiple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1: ATOMIC MULTIPLETS (9-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2: CRYSTAL FIELD EFFECTS (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3: CHARGE TRANSFER (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13-14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4: X-MCD (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15-16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5: PHOTOEMISSION AND AUGER (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15-16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6: X-RAY EMISSION AND RIX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(15-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252320" y="1905120"/>
            <a:ext cx="988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8580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oxide: Ground state: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of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rge transfer energy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286000"/>
            <a:ext cx="16761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X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594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79000" y="5029200"/>
            <a:ext cx="17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U-Q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1480" y="38862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11480" y="25146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4724280"/>
            <a:ext cx="13716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79132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16400" y="2743200"/>
            <a:ext cx="0" cy="9144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4876920"/>
            <a:ext cx="0" cy="76176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11680" y="3886200"/>
            <a:ext cx="1246320" cy="18288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4680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2514600"/>
            <a:ext cx="1295640" cy="21337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5715000"/>
            <a:ext cx="1752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4600" y="3886200"/>
            <a:ext cx="790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5715000"/>
            <a:ext cx="2362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86000"/>
            <a:ext cx="24382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X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579132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8862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4038480"/>
            <a:ext cx="0" cy="1600200"/>
          </a:xfrm>
          <a:prstGeom prst="line">
            <a:avLst/>
          </a:prstGeom>
          <a:ln cap="sq"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514600" y="2666880"/>
            <a:ext cx="1447920" cy="29718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20040" y="4419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438280" y="3886200"/>
            <a:ext cx="13716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32960" y="4876920"/>
            <a:ext cx="24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Ground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 and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609480"/>
            <a:ext cx="5430960" cy="5867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410080" y="762120"/>
            <a:ext cx="373392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al shape determin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1) Multiplet eff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 Charge Trans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1905120"/>
            <a:ext cx="228600" cy="152280"/>
          </a:xfrm>
          <a:custGeom>
            <a:avLst/>
            <a:gdLst>
              <a:gd name="textAreaLeft" fmla="*/ 39960 w 228600"/>
              <a:gd name="textAreaRight" fmla="*/ 165960 w 2286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74680" y="5105520"/>
            <a:ext cx="216360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Elec. 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67, 529 (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5257800"/>
            <a:ext cx="0" cy="3049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981080"/>
            <a:ext cx="228600" cy="152640"/>
          </a:xfrm>
          <a:custGeom>
            <a:avLst/>
            <a:gdLst>
              <a:gd name="textAreaLeft" fmla="*/ 39960 w 228600"/>
              <a:gd name="textAreaRight" fmla="*/ 165960 w 2286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 and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47680" y="609480"/>
            <a:ext cx="8896320" cy="3514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4723920"/>
            <a:ext cx="54100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al shape determin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1) Multiplet eff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 Charge Trans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7200" y="419112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Energy (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1280" y="106668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iB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91680" y="10666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4191120"/>
            <a:ext cx="685800" cy="380880"/>
          </a:xfrm>
          <a:custGeom>
            <a:avLst/>
            <a:gdLst>
              <a:gd name="textAreaLeft" fmla="*/ 119880 w 685800"/>
              <a:gd name="textAreaRight" fmla="*/ 497160 w 6858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4191120"/>
            <a:ext cx="60948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04840" y="5562720"/>
            <a:ext cx="216360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J. Elec. 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67, 529 (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arge transfer effects in XAS and X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0"/>
          <a:ext cx="57135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135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3760" y="1676520"/>
            <a:ext cx="33526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ngle Electron Excita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EN, FEFF,  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Many Body Excitation: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Other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447920" y="1142640"/>
            <a:ext cx="0" cy="48006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624852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191120" y="2057040"/>
            <a:ext cx="0" cy="39625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0"/>
          <a:ext cx="57135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135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33760" y="914040"/>
            <a:ext cx="38098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ingle Electron </a:t>
            </a:r>
            <a:br>
              <a:rPr sz="2800"/>
            </a:b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cita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 main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EN, FEFF,  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00"/>
                </a:solidFill>
                <a:uFillTx/>
                <a:latin typeface="Arial"/>
              </a:rPr>
              <a:t>Many Body </a:t>
            </a:r>
            <a:br>
              <a:rPr sz="2800"/>
            </a:br>
            <a:r>
              <a:rPr b="0" lang="en-US" sz="2800" spc="-1" strike="noStrike" u="sng">
                <a:solidFill>
                  <a:srgbClr val="00cc00"/>
                </a:solidFill>
                <a:uFillTx/>
                <a:latin typeface="Arial"/>
              </a:rPr>
              <a:t>Excitation: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Other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K pre-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1142640"/>
            <a:ext cx="0" cy="48006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624852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191120" y="2057040"/>
            <a:ext cx="0" cy="3962520"/>
          </a:xfrm>
          <a:prstGeom prst="line">
            <a:avLst/>
          </a:prstGeom>
          <a:ln cap="sq"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16240"/>
            <a:ext cx="4987800" cy="5648040"/>
          </a:xfrm>
          <a:prstGeom prst="ellipse">
            <a:avLst/>
          </a:prstGeom>
          <a:solidFill>
            <a:srgbClr val="cbcbcb"/>
          </a:solidFill>
          <a:ln cap="sq"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Unified Interpretat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914400"/>
            <a:ext cx="91440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Chapter 1: ATOMIC MULTI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3d and 4d XAS of La</a:t>
            </a:r>
            <a:r>
              <a:rPr b="0" lang="en-GB" sz="28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+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Term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XAS described with Atomic Multipl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2p XAS of TiO</a:t>
            </a:r>
            <a:r>
              <a:rPr b="0" lang="en-GB" sz="28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Atomic multiplet ground states of 3d</a:t>
            </a:r>
            <a:r>
              <a:rPr b="0" lang="en-GB" sz="28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n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47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Using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TM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958680"/>
            <a:ext cx="9144000" cy="58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ff"/>
                </a:solidFill>
                <a:latin typeface="Arial"/>
              </a:rPr>
              <a:t>2S+1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 Azimuthal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= |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1|, …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: l=2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L=0,1,2,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 Spin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= |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1|, …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: s=1/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S=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</a:t>
            </a:r>
            <a:r>
              <a:rPr b="1" lang="en-US" sz="2800" spc="-1" strike="noStrike" u="sng" baseline="-25000">
                <a:solidFill>
                  <a:srgbClr val="0000ff"/>
                </a:solidFill>
                <a:uFillTx/>
                <a:latin typeface="Arial"/>
              </a:rPr>
              <a:t>L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magnetic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-L, L+1, …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: 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2,1,0,-1,-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</a:t>
            </a:r>
            <a:r>
              <a:rPr b="1" lang="en-US" sz="2800" spc="-1" strike="noStrike" u="sng" baseline="-25000">
                <a:solidFill>
                  <a:srgbClr val="0000ff"/>
                </a:solidFill>
                <a:uFillTx/>
                <a:latin typeface="Arial"/>
              </a:rPr>
              <a:t>S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spin magnetic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-S, S+1,…, 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: 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1/2, -1/2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m Symbols (L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958680"/>
            <a:ext cx="91440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2S+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J Spin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= |L-S|, |L-S+1|, …, L+S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: j=3/2,5/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j=0,1,2,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t all combinations of L+S are possib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</a:t>
            </a:r>
            <a:r>
              <a:rPr b="1" lang="en-US" sz="2800" spc="-1" strike="noStrike" u="sng" baseline="-25000">
                <a:solidFill>
                  <a:srgbClr val="0000ff"/>
                </a:solidFill>
                <a:uFillTx/>
                <a:latin typeface="Arial"/>
              </a:rPr>
              <a:t>J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total magnetic quantum number</a:t>
            </a: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-J, J+1, …J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5/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m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5/2,3/2,1/2,-1/2,-3/2,-5/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m Symbols (LSJ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781680" y="2895480"/>
            <a:ext cx="175284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m Symbo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143000"/>
          <a:ext cx="6095880" cy="10951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8960"/>
                <a:gridCol w="121932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57200" y="2971800"/>
          <a:ext cx="609588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57200" y="4572000"/>
          <a:ext cx="609588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6858000" y="4572000"/>
            <a:ext cx="17524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figurations of 2p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04920" y="762120"/>
          <a:ext cx="3657600" cy="1095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57200" y="91440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09480" y="106668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762120" y="1219320"/>
          <a:ext cx="3657600" cy="1095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914400" y="137160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066680" y="152388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219320" y="1676520"/>
          <a:ext cx="3657600" cy="1095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371600" y="182880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523880" y="198108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676520" y="2133720"/>
          <a:ext cx="3657600" cy="1095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828800" y="228600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981080" y="243828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5105520" y="2971800"/>
          <a:ext cx="3657600" cy="10951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5105520" y="4191120"/>
          <a:ext cx="3657600" cy="1095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105520" y="5410080"/>
          <a:ext cx="3657600" cy="10954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57240"/>
          <a:ext cx="8458200" cy="68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7240"/>
                    <a:ext cx="845820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172200" y="5997600"/>
            <a:ext cx="297180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Hocking et al.  (JACS, 128, 104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harge Transfer Multiplet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51600" y="4267080"/>
            <a:ext cx="5170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S term symbols: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,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,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SJ term symb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676520" y="838080"/>
          <a:ext cx="4876560" cy="3286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1ff81"/>
                        </a:gs>
                        <a:gs pos="100000">
                          <a:srgbClr val="ff9b9b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b9b"/>
                        </a:gs>
                        <a:gs pos="50000">
                          <a:srgbClr val="0000ff"/>
                        </a:gs>
                        <a:gs pos="100000">
                          <a:srgbClr val="ff9b9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1ff81"/>
                        </a:gs>
                        <a:gs pos="100000">
                          <a:srgbClr val="ff9b9b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ff81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fff7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m Symbols of 2p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34920" y="5638680"/>
            <a:ext cx="4331160" cy="787320"/>
          </a:xfrm>
          <a:prstGeom prst="rect">
            <a:avLst/>
          </a:prstGeom>
          <a:solidFill>
            <a:srgbClr val="81ff81"/>
          </a:solidFill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0  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2  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0 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914400"/>
            <a:ext cx="913752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termine term symbols of all partly filled sh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ultiply term symbols of different sh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GB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D gives</a:t>
            </a:r>
            <a:r>
              <a:rPr b="0" lang="en-GB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1,3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,D,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S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=1/2, S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=1/2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&gt;&gt; S=0 o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L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= 1, L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= 2 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&gt;&gt; L=3 or 2 o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m Symbo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-685800" y="609480"/>
            <a:ext cx="98298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termine term symbol of ground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ximum 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ximum 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ximum J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if shell is more than half-ful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has 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Arial"/>
              </a:rPr>
              <a:t>3/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ground state           3d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: 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3d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has 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Arial"/>
              </a:rPr>
              <a:t>5/2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 ground state           3d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: </a:t>
            </a:r>
            <a:r>
              <a:rPr b="0" lang="en-US" sz="3200" spc="-1" strike="noStrike" baseline="30000">
                <a:solidFill>
                  <a:srgbClr val="ff0033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ff0033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und’s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914400"/>
            <a:ext cx="913752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La in La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can be described as La</a:t>
            </a:r>
            <a:r>
              <a:rPr b="0" lang="en-US" sz="3200" spc="-1" strike="noStrike" baseline="30000">
                <a:solidFill>
                  <a:srgbClr val="0000ff"/>
                </a:solidFill>
                <a:latin typeface="Verdana"/>
              </a:rPr>
              <a:t>3+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round state is 4f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ipole transition 4f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3d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9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4f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round state symmetry: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S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inal state symmetry: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 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H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and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 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H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914400"/>
            <a:ext cx="91375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inal state symmetries:</a:t>
            </a:r>
            <a:br>
              <a:rPr sz="3200"/>
            </a:b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 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 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H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and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 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F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G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H</a:t>
            </a: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30000">
                <a:solidFill>
                  <a:srgbClr val="0000ff"/>
                </a:solidFill>
                <a:latin typeface="Verdana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ransition &lt;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S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|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J=+1|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P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, </a:t>
            </a:r>
            <a:r>
              <a:rPr b="0" lang="en-GB" sz="32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D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0000ff"/>
                </a:solidFill>
                <a:latin typeface="Verdana"/>
                <a:ea typeface="Times New Roman"/>
              </a:rPr>
              <a:t>3 peaks in the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0" y="685800"/>
            <a:ext cx="9144000" cy="5753160"/>
            <a:chOff x="0" y="685800"/>
            <a:chExt cx="9144000" cy="5753160"/>
          </a:xfrm>
        </p:grpSpPr>
        <p:sp>
          <p:nvSpPr>
            <p:cNvPr id="252" name=""/>
            <p:cNvSpPr/>
            <p:nvPr/>
          </p:nvSpPr>
          <p:spPr>
            <a:xfrm>
              <a:off x="0" y="685800"/>
              <a:ext cx="9144000" cy="575316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8640" y="1208520"/>
              <a:ext cx="2011320" cy="697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2la3.rc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" y="5218560"/>
              <a:ext cx="2011320" cy="697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2la3.p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35040" y="1208520"/>
              <a:ext cx="2194560" cy="697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2la3.or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08960" y="1208520"/>
              <a:ext cx="2560320" cy="69732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697320"/>
                <a:gd name="textAreaBottom" fmla="*/ 697680 h 69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cg2 als2la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389120" y="1905840"/>
              <a:ext cx="1645920" cy="31381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08960" y="5218560"/>
              <a:ext cx="2560320" cy="697320"/>
            </a:xfrm>
            <a:custGeom>
              <a:avLst/>
              <a:gdLst>
                <a:gd name="textAreaLeft" fmla="*/ 0 w 2560320"/>
                <a:gd name="textAreaRight" fmla="*/ 2560680 w 2560320"/>
                <a:gd name="textAreaTop" fmla="*/ 0 h 697320"/>
                <a:gd name="textAreaBottom" fmla="*/ 697680 h 69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plo2 als2la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35040" y="5218560"/>
              <a:ext cx="2011320" cy="6973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2la3.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2la3.r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676520"/>
            <a:ext cx="1120140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9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10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 9  F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La3+ 3D10 4F00     1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La3+ 3D09 4F01     8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841.4990    6.7992    0.0922    7.0633    3.167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.7234    2.7614    1.90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La3+ 3D10 4F00      Dy3+ 3D09 4F01        -0.24802( 3D//R1// 4F) 1.000HR  34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457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Run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2la3.rcg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 with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rcg2 als2l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2la3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676520"/>
            <a:ext cx="13411080" cy="47574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. OF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J     JP     J-JP   TOTAL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KLAM    IL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.0   1.0       3       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3000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                                                 ELEC DIP SPECTRUM     (ENERGIES IN UNITS OF  8065.5 CM-1 =    1.00 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DY3+ 3D10 4F00       ---      DY3+ 3D09 4F01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E      J   CONF              EP      JP  CONFP          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TA E   LAMBDA(A)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/PMAX**2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GF    LOG GF GA(SEC-1) CF,BR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</a:t>
            </a:r>
            <a:r>
              <a:rPr b="0" lang="en-GB" sz="1800" spc="-1" strike="noStrike">
                <a:solidFill>
                  <a:srgbClr val="00ff00"/>
                </a:solidFill>
                <a:latin typeface="Courier New"/>
                <a:ea typeface="Times New Roman"/>
              </a:rPr>
              <a:t>0.0000  0.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1 </a:t>
            </a:r>
            <a:r>
              <a:rPr b="0" lang="en-GB" sz="1800" spc="-1" strike="noStrike">
                <a:solidFill>
                  <a:srgbClr val="00ff00"/>
                </a:solidFill>
                <a:latin typeface="Courier New"/>
                <a:ea typeface="Times New Roman"/>
              </a:rPr>
              <a:t>(1S) 1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833.2133  1.0  1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(2D) 3P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833.2133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14.8804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.00690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0.0087  -2.062 2.611E+11  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0.0000  0.0  1 (1S) 1S      837.4330  1.0  1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(2D) 3D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837.4330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14.8054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.80480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1.0157   0.007 3.091E+13  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0.0000  0.0  1 (1S) 1S      854.0414  1.0  1 </a:t>
            </a:r>
            <a:r>
              <a:rPr b="0" lang="en-GB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(2D) 1P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854.0414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14.5175 </a:t>
            </a:r>
            <a:r>
              <a:rPr b="0" i="1" lang="en-GB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1.18829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1.5294   0.185 4.840E+13  1.000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2la3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676520"/>
            <a:ext cx="13411080" cy="338580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ostscript la3.p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ortrai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nergy_range 830 86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olumns_per_pag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ows_per_pag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rame_title La 3d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lorentzian 0.2 999. range 0 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lorentzian 0.4 9.   range 845 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gaussian 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rcg9 la3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nd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671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7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6383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re Level Spectroscop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6553080" cy="63975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 XAS of La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97280" y="5873760"/>
            <a:ext cx="3524400" cy="94716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Thole et 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PRB 32, 5107 (19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5943600" cy="5732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-685800" y="182880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III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on in Nd met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: 4f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inal state:  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4f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97280" y="5873760"/>
            <a:ext cx="3524400" cy="94716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Thole et 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PRB 32, 5107 (19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 XAS of 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-762120" y="1143000"/>
            <a:ext cx="9906120" cy="54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IV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on in TiO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inal state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pole 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j=0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,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j’=0,1,2,3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=+1,0,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 symmetry: 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ransition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wo possible final states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,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609480"/>
            <a:ext cx="9144000" cy="5715000"/>
          </a:xfrm>
          <a:prstGeom prst="rect">
            <a:avLst/>
          </a:prstGeom>
          <a:solidFill>
            <a:srgbClr val="eaeaea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9360" y="3206880"/>
            <a:ext cx="2011320" cy="693720"/>
          </a:xfrm>
          <a:prstGeom prst="flowChartAlternateProcess">
            <a:avLst/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ls3ti4.r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9360" y="5111640"/>
            <a:ext cx="2011320" cy="693720"/>
          </a:xfrm>
          <a:prstGeom prst="flowChartAlternateProcess">
            <a:avLst/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ls3ti4.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35760" y="3206880"/>
            <a:ext cx="2011320" cy="693720"/>
          </a:xfrm>
          <a:prstGeom prst="flowChartAlternateProcess">
            <a:avLst/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ls3ti4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08240" y="3206880"/>
            <a:ext cx="2560680" cy="693720"/>
          </a:xfrm>
          <a:custGeom>
            <a:avLst/>
            <a:gdLst>
              <a:gd name="textAreaLeft" fmla="*/ 0 w 2560680"/>
              <a:gd name="textAreaRight" fmla="*/ 2561040 w 256068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rcg2 als3ti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8240" y="5111640"/>
            <a:ext cx="2560680" cy="693720"/>
          </a:xfrm>
          <a:custGeom>
            <a:avLst/>
            <a:gdLst>
              <a:gd name="textAreaLeft" fmla="*/ 0 w 2560680"/>
              <a:gd name="textAreaRight" fmla="*/ 2561040 w 256068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plo2 als3ti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35760" y="5111640"/>
            <a:ext cx="2011320" cy="693720"/>
          </a:xfrm>
          <a:prstGeom prst="flowChartAlternateProcess">
            <a:avLst/>
          </a:prstGeom>
          <a:solidFill>
            <a:srgbClr val="ffff99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ls3ti4.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9360" y="1128600"/>
            <a:ext cx="7680240" cy="1847880"/>
            <a:chOff x="549360" y="1128600"/>
            <a:chExt cx="7680240" cy="1847880"/>
          </a:xfrm>
        </p:grpSpPr>
        <p:sp>
          <p:nvSpPr>
            <p:cNvPr id="298" name=""/>
            <p:cNvSpPr/>
            <p:nvPr/>
          </p:nvSpPr>
          <p:spPr>
            <a:xfrm>
              <a:off x="549360" y="1128600"/>
              <a:ext cx="2011320" cy="6937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rc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35760" y="1128600"/>
              <a:ext cx="2193840" cy="693720"/>
            </a:xfrm>
            <a:prstGeom prst="flowChartAlternateProcess">
              <a:avLst/>
            </a:prstGeom>
            <a:solidFill>
              <a:srgbClr val="ffff99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als3ti4.rc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08240" y="1128600"/>
              <a:ext cx="2560680" cy="69372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cn2 als3ti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70760" y="1936800"/>
              <a:ext cx="0" cy="3477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584360" y="2284560"/>
              <a:ext cx="54864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84360" y="2284560"/>
              <a:ext cx="0" cy="6919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13160" y="2284560"/>
              <a:ext cx="2012760" cy="69192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re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676520"/>
            <a:ext cx="13335120" cy="13136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22 -9    2   10  1.0    5.E-06    1.E-09-2   130   1.0  0.65  0.0 0.50 0.0  .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Ti4+ 2p06 3d00      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P06 3D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2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Ti4+ 2p05 3d01         </a:t>
            </a:r>
            <a:r>
              <a:rPr b="1" lang="en-GB" sz="2000" spc="-1" strike="noStrike">
                <a:solidFill>
                  <a:srgbClr val="0000ff"/>
                </a:solidFill>
                <a:latin typeface="Courier New"/>
                <a:ea typeface="MS Mincho"/>
              </a:rPr>
              <a:t>2P05 3D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3526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Run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.rcn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 with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rc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n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2 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give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als3ti4.r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Only 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rc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676520"/>
            <a:ext cx="1333512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464.8110    3.7762    0.0322    6.3023    4.6284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2.63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276360" y="2438280"/>
            <a:ext cx="1447560" cy="266724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Change 9 to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to print out the energy matrix and eigen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All final state interactions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676520"/>
            <a:ext cx="1333512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464.8110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2    0.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0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2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276720" y="3505320"/>
            <a:ext cx="914400" cy="16002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9072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Change to 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641840" y="533520"/>
            <a:ext cx="4502160" cy="5867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408560" cy="59245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3080" y="685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a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g            (all z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676520"/>
            <a:ext cx="13335120" cy="20408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ENERGY MATRIX   (    LS COUPLING)       J= 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1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2P) 3D  (2P) 3P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2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3D  1   464.811    0.000    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3P  2     0.000  464.811    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  0.000    0.000  464.8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267080"/>
            <a:ext cx="13335120" cy="204084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ENVECTORS   (    LS COUP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P05 3D   P05 3D   P05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2P) 3D  (2P) 3P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3D  1   1.00000  0.00000  0.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3P  2   0.00000  1.00000  0.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0.00000  0.00000  1.00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4120" y="609480"/>
            <a:ext cx="2674800" cy="38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7200" y="4800600"/>
                <a:ext cx="822960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A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ℏ</m:t>
                        </m:r>
                        <m:r>
                          <m:t xml:space="preserve">ω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143000" y="609480"/>
            <a:ext cx="3429000" cy="3821760"/>
          </a:xfrm>
          <a:prstGeom prst="rect">
            <a:avLst/>
          </a:prstGeom>
          <a:noFill/>
          <a:ln cap="sq"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xcitations of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re electrons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o empty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XAS spectrum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s given by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ermi Golden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990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Include 2p spin-orbit coupling 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676520"/>
            <a:ext cx="1333512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464.8110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3.776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2    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0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2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0.000</a:t>
            </a:r>
            <a:r>
              <a:rPr b="0" lang="en-GB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276720" y="3505320"/>
            <a:ext cx="914400" cy="16002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Change back to 3.7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641840" y="533520"/>
            <a:ext cx="4502160" cy="58672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408560" cy="59245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83080" y="685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91680" y="373392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990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b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g           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676520"/>
            <a:ext cx="13335120" cy="1797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ENERGY MATRIX   (    LS COUPLING)       J= 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3D  (2P) 3P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2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 465.755    1.635    2.3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   1.635  463.867    1.3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  2.312    1.335  464.8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724280"/>
            <a:ext cx="13335120" cy="15541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EIGENVECTORS   (    LS COUP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 P05 3D   P05 3D   P05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1P  (2P) 3P  (2P) 3D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-0.67098  0.22312 -0.707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 0.12977 -0.90360 -0.408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 (2P) 1P  3   0.73003  0.36569 -0.57734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733920"/>
            <a:ext cx="13335120" cy="5806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EIGENVALUES      (J= 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62.923  462.923  468.587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38720" y="3809880"/>
            <a:ext cx="39052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=5.664 = 3/2*L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.7300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0.36569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0.6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0.57734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0.3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Include Slater-integrals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1676520"/>
            <a:ext cx="1333512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464.811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.00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2    0.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02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6.3023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4.6284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2.63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276720" y="3505320"/>
            <a:ext cx="914400" cy="16002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Set the spin-orbit couplings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641840" y="533520"/>
            <a:ext cx="4502160" cy="5867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408560" cy="59245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3080" y="685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91680" y="373392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0480" y="7621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c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g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1676520"/>
            <a:ext cx="13335120" cy="1797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ENERGY MATRIX   (    LS COUPLING)       J= 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3D  (2P) 3P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2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 465.482    0.000    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   0.000  463.466    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  0.000    0.000  468.4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4724280"/>
            <a:ext cx="13335120" cy="15541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EIGENVECTORS   (    LS COUP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 P05 3D   P05 3D   P05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3P  (2P) 3D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 0.00000  1.00000  0.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 1.00000  0.00000  0.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0.00000  0.00000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.0000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733920"/>
            <a:ext cx="13335120" cy="5806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EIGENVALUES      (J= 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63.466  465.482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68.402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990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Includ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 +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1676520"/>
            <a:ext cx="13335120" cy="27709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0    1    0   00    4    4    1    1 SHELL00000000 SPIN00000000 INTER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                       80998080            8065.47800     0000000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2 1 12 1 10         00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00000000 0 8065.4790 .00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6  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P 5  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1    0.0000    0.0000    0.0000    0.0000    0.0000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5 3d01     6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464.811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3.776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0.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02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6.3023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4.6284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HR99999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MS Mincho"/>
              </a:rPr>
              <a:t>2.63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i4+ 2p06 3d00      Ti4+ 2p05 3d01        -0.26267( 2P//R1// 3D) 1.000HR  38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-99999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572000" y="3505320"/>
            <a:ext cx="914400" cy="16002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nly the 3d spin-orbit coupling is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9907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als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3ti4d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org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1676520"/>
            <a:ext cx="13335120" cy="17974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ENERGY MATRIX   (    LS COUPLING)       J= 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3D  (2P) 3P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2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 466.426    1.635    2.3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   1.635  462.522    1.3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(2P) 1P  3     2.312    1.335  468.4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340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2p XAS of TiO</a:t>
            </a:r>
            <a:r>
              <a:rPr b="1" i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4724280"/>
            <a:ext cx="13335120" cy="155412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EIGENVECTORS   (    LS COUP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        P05 3D   P05 3D   P05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2P) 3P  (2P) 3D  (2P) 1P 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D  1   0.29681 -0.77568  0.556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1 (2P) 3P  2  -0.95074 -0.18539  0.248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 (2P) 1P  3   0.08946  0.60328  0.79250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733920"/>
            <a:ext cx="13335120" cy="580680"/>
          </a:xfrm>
          <a:prstGeom prst="rect">
            <a:avLst/>
          </a:prstGeom>
          <a:solidFill>
            <a:srgbClr val="ffff99"/>
          </a:solidFill>
          <a:ln cap="sq"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0  EIGENVALUES      (J= 1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             </a:t>
            </a:r>
            <a:r>
              <a:rPr b="0" lang="en-GB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61.886  465.019  470.44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641840" y="533520"/>
            <a:ext cx="4502160" cy="5867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408560" cy="59245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83080" y="685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91680" y="373392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0480" y="7621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54000" y="426708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74160" y="373392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371600" y="927000"/>
            <a:ext cx="5587920" cy="5931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XAS experiment (SrTi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9072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Fermi Golden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295c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295c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295cff"/>
                </a:solidFill>
                <a:latin typeface="Arial"/>
              </a:rPr>
              <a:t>dipole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| </a:t>
            </a:r>
            <a:r>
              <a:rPr b="0" lang="en-US" sz="3200" spc="-1" strike="noStrike">
                <a:solidFill>
                  <a:srgbClr val="295c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295c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=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51460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Single electron (excitation) approxi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295c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295cff"/>
                </a:solidFill>
                <a:latin typeface="Arial"/>
              </a:rPr>
              <a:t>empty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295cff"/>
                </a:solidFill>
                <a:latin typeface="Arial"/>
              </a:rPr>
              <a:t>dipole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| </a:t>
            </a:r>
            <a:r>
              <a:rPr b="0" lang="en-US" sz="3200" spc="-1" strike="noStrike">
                <a:solidFill>
                  <a:srgbClr val="295c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295cff"/>
                </a:solidFill>
                <a:latin typeface="Arial"/>
              </a:rPr>
              <a:t>core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038480"/>
            <a:ext cx="91440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295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Neglect &lt;vv’|1/r|vv’&gt; (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‘many body effects’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295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Neglect &lt;cv|1/r|cv&gt; (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‘multiplet effects’</a:t>
            </a:r>
            <a:r>
              <a:rPr b="0" lang="en-US" sz="3200" spc="-1" strike="noStrike">
                <a:solidFill>
                  <a:srgbClr val="295c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-5032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0" y="457200"/>
            <a:ext cx="9143280" cy="6010200"/>
            <a:chOff x="0" y="457200"/>
            <a:chExt cx="9143280" cy="6010200"/>
          </a:xfrm>
        </p:grpSpPr>
        <p:grpSp>
          <p:nvGrpSpPr>
            <p:cNvPr id="392" name=""/>
            <p:cNvGrpSpPr/>
            <p:nvPr/>
          </p:nvGrpSpPr>
          <p:grpSpPr>
            <a:xfrm>
              <a:off x="9720" y="461160"/>
              <a:ext cx="9121680" cy="6001560"/>
              <a:chOff x="9720" y="461160"/>
              <a:chExt cx="9121680" cy="600156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9720" y="461160"/>
                <a:ext cx="2442960" cy="545400"/>
                <a:chOff x="9720" y="461160"/>
                <a:chExt cx="2442960" cy="5454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56600" y="46116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Transi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9720" y="46116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453400" y="461160"/>
                <a:ext cx="1756080" cy="545400"/>
                <a:chOff x="2453400" y="461160"/>
                <a:chExt cx="1756080" cy="5454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600280" y="46116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Grou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53400" y="46116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210560" y="461160"/>
                <a:ext cx="2227320" cy="545400"/>
                <a:chOff x="4210560" y="461160"/>
                <a:chExt cx="2227320" cy="5454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4356720" y="46116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Transi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210560" y="46116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6438960" y="461160"/>
                <a:ext cx="2692440" cy="545400"/>
                <a:chOff x="6438960" y="461160"/>
                <a:chExt cx="2692440" cy="5454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585120" y="46116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Term Symbol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438960" y="46116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9720" y="1006560"/>
                <a:ext cx="2442960" cy="545400"/>
                <a:chOff x="9720" y="1006560"/>
                <a:chExt cx="2442960" cy="5454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156600" y="100656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9720" y="100656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2453400" y="1006560"/>
                <a:ext cx="1756080" cy="545400"/>
                <a:chOff x="2453400" y="1006560"/>
                <a:chExt cx="1756080" cy="5454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2600280" y="100656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S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453400" y="100656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4210560" y="1006560"/>
                <a:ext cx="2227320" cy="545400"/>
                <a:chOff x="4210560" y="1006560"/>
                <a:chExt cx="2227320" cy="5454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4356720" y="100656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10560" y="100656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6438960" y="1006560"/>
                <a:ext cx="2692440" cy="545400"/>
                <a:chOff x="6438960" y="1006560"/>
                <a:chExt cx="2692440" cy="5454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6585120" y="100656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438960" y="100656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9720" y="1551960"/>
                <a:ext cx="2442960" cy="545760"/>
                <a:chOff x="9720" y="1551960"/>
                <a:chExt cx="2442960" cy="54576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56600" y="1551960"/>
                  <a:ext cx="214848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9720" y="1551960"/>
                  <a:ext cx="244296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2453400" y="1551960"/>
                <a:ext cx="1756080" cy="545760"/>
                <a:chOff x="2453400" y="1551960"/>
                <a:chExt cx="1756080" cy="5457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2600280" y="1551960"/>
                  <a:ext cx="14619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453400" y="1551960"/>
                  <a:ext cx="175608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4210560" y="1551960"/>
                <a:ext cx="2227320" cy="545760"/>
                <a:chOff x="4210560" y="1551960"/>
                <a:chExt cx="2227320" cy="5457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4356720" y="1551960"/>
                  <a:ext cx="193392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210560" y="1551960"/>
                  <a:ext cx="222732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438960" y="1551960"/>
                <a:ext cx="2692440" cy="545760"/>
                <a:chOff x="6438960" y="1551960"/>
                <a:chExt cx="2692440" cy="5457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6585120" y="1551960"/>
                  <a:ext cx="239904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438960" y="1551960"/>
                  <a:ext cx="269244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9720" y="2098080"/>
                <a:ext cx="2442960" cy="545400"/>
                <a:chOff x="9720" y="2098080"/>
                <a:chExt cx="2442960" cy="5454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156600" y="209808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9720" y="209808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2453400" y="2098080"/>
                <a:ext cx="1756080" cy="545400"/>
                <a:chOff x="2453400" y="2098080"/>
                <a:chExt cx="1756080" cy="5454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600280" y="209808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453400" y="209808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210560" y="2098080"/>
                <a:ext cx="2227320" cy="545400"/>
                <a:chOff x="4210560" y="2098080"/>
                <a:chExt cx="2227320" cy="5454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4356720" y="209808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210560" y="209808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438960" y="2098080"/>
                <a:ext cx="2692440" cy="545400"/>
                <a:chOff x="6438960" y="2098080"/>
                <a:chExt cx="2692440" cy="545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6585120" y="209808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438960" y="209808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9720" y="2643480"/>
                <a:ext cx="2442960" cy="545400"/>
                <a:chOff x="9720" y="2643480"/>
                <a:chExt cx="2442960" cy="54540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56600" y="264348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9720" y="264348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2453400" y="2643480"/>
                <a:ext cx="1756080" cy="545400"/>
                <a:chOff x="2453400" y="2643480"/>
                <a:chExt cx="1756080" cy="54540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600280" y="264348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453400" y="264348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210560" y="2643480"/>
                <a:ext cx="2227320" cy="545400"/>
                <a:chOff x="4210560" y="2643480"/>
                <a:chExt cx="2227320" cy="5454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356720" y="264348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210560" y="264348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438960" y="2643480"/>
                <a:ext cx="2692440" cy="545400"/>
                <a:chOff x="6438960" y="2643480"/>
                <a:chExt cx="2692440" cy="545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585120" y="264348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8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438960" y="264348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9720" y="3189240"/>
                <a:ext cx="2442960" cy="545400"/>
                <a:chOff x="9720" y="3189240"/>
                <a:chExt cx="2442960" cy="5454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156600" y="318924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9720" y="318924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453400" y="3189240"/>
                <a:ext cx="1756080" cy="545400"/>
                <a:chOff x="2453400" y="3189240"/>
                <a:chExt cx="1756080" cy="5454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00280" y="318924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453400" y="318924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4210560" y="3189240"/>
                <a:ext cx="2227320" cy="545400"/>
                <a:chOff x="4210560" y="3189240"/>
                <a:chExt cx="2227320" cy="54540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4356720" y="318924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210560" y="318924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6438960" y="3189240"/>
                <a:ext cx="2692440" cy="545400"/>
                <a:chOff x="6438960" y="3189240"/>
                <a:chExt cx="2692440" cy="5454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6585120" y="318924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0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438960" y="318924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9720" y="3734640"/>
                <a:ext cx="2442960" cy="545400"/>
                <a:chOff x="9720" y="3734640"/>
                <a:chExt cx="2442960" cy="5454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56600" y="373464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9720" y="373464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2453400" y="3734640"/>
                <a:ext cx="1756080" cy="545400"/>
                <a:chOff x="2453400" y="3734640"/>
                <a:chExt cx="1756080" cy="5454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2600280" y="373464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S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453400" y="373464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210560" y="3734640"/>
                <a:ext cx="2227320" cy="545400"/>
                <a:chOff x="4210560" y="3734640"/>
                <a:chExt cx="2227320" cy="54540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356720" y="373464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210560" y="373464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6438960" y="3734640"/>
                <a:ext cx="2692440" cy="545400"/>
                <a:chOff x="6438960" y="3734640"/>
                <a:chExt cx="2692440" cy="54540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6585120" y="373464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8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438960" y="373464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9720" y="4280400"/>
                <a:ext cx="2442960" cy="545400"/>
                <a:chOff x="9720" y="4280400"/>
                <a:chExt cx="2442960" cy="54540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156600" y="428040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9720" y="428040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2453400" y="4280400"/>
                <a:ext cx="1756080" cy="545400"/>
                <a:chOff x="2453400" y="4280400"/>
                <a:chExt cx="1756080" cy="5454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600280" y="428040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453400" y="428040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210560" y="4280400"/>
                <a:ext cx="2227320" cy="545400"/>
                <a:chOff x="4210560" y="4280400"/>
                <a:chExt cx="2227320" cy="5454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356720" y="428040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6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210560" y="428040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438960" y="4280400"/>
                <a:ext cx="2692440" cy="545400"/>
                <a:chOff x="6438960" y="4280400"/>
                <a:chExt cx="2692440" cy="54540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6585120" y="428040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438960" y="428040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9720" y="4825800"/>
                <a:ext cx="2442960" cy="545400"/>
                <a:chOff x="9720" y="4825800"/>
                <a:chExt cx="2442960" cy="5454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56600" y="482580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7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9720" y="482580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2453400" y="4825800"/>
                <a:ext cx="1756080" cy="545400"/>
                <a:chOff x="2453400" y="4825800"/>
                <a:chExt cx="1756080" cy="5454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2600280" y="482580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453400" y="482580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4210560" y="4825800"/>
                <a:ext cx="2227320" cy="545400"/>
                <a:chOff x="4210560" y="4825800"/>
                <a:chExt cx="2227320" cy="5454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4356720" y="482580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210560" y="482580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6438960" y="4825800"/>
                <a:ext cx="2692440" cy="545400"/>
                <a:chOff x="6438960" y="4825800"/>
                <a:chExt cx="2692440" cy="5454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6585120" y="482580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438960" y="482580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9720" y="5371560"/>
                <a:ext cx="2442960" cy="545400"/>
                <a:chOff x="9720" y="5371560"/>
                <a:chExt cx="2442960" cy="5454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56600" y="5371560"/>
                  <a:ext cx="214848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8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9720" y="5371560"/>
                  <a:ext cx="244296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453400" y="5371560"/>
                <a:ext cx="1756080" cy="545400"/>
                <a:chOff x="2453400" y="5371560"/>
                <a:chExt cx="1756080" cy="5454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2600280" y="5371560"/>
                  <a:ext cx="14619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F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453400" y="5371560"/>
                  <a:ext cx="175608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4210560" y="5371560"/>
                <a:ext cx="2227320" cy="545400"/>
                <a:chOff x="4210560" y="5371560"/>
                <a:chExt cx="2227320" cy="5454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4356720" y="5371560"/>
                  <a:ext cx="193392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210560" y="5371560"/>
                  <a:ext cx="222732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6438960" y="5371560"/>
                <a:ext cx="2692440" cy="545400"/>
                <a:chOff x="6438960" y="5371560"/>
                <a:chExt cx="2692440" cy="5454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6585120" y="5371560"/>
                  <a:ext cx="239904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38960" y="5371560"/>
                  <a:ext cx="2692440" cy="545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9720" y="5916960"/>
                <a:ext cx="2442960" cy="545760"/>
                <a:chOff x="9720" y="5916960"/>
                <a:chExt cx="2442960" cy="5457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56600" y="5916960"/>
                  <a:ext cx="214848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9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0" lang="en-US" sz="20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p</a:t>
                  </a:r>
                  <a:r>
                    <a:rPr b="0" lang="en-US" sz="20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</a:t>
                  </a:r>
                  <a:r>
                    <a:rPr b="0" lang="en-US" sz="20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3d</a:t>
                  </a:r>
                  <a:r>
                    <a:rPr b="0" lang="en-US" sz="20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9720" y="5916960"/>
                  <a:ext cx="244296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453400" y="5916960"/>
                <a:ext cx="1756080" cy="545760"/>
                <a:chOff x="2453400" y="5916960"/>
                <a:chExt cx="1756080" cy="5457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2600280" y="5916960"/>
                  <a:ext cx="14619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D</a:t>
                  </a:r>
                  <a:r>
                    <a:rPr b="0" lang="en-US" sz="2400" spc="-1" strike="noStrike" baseline="-30000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5/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453400" y="5916960"/>
                  <a:ext cx="175608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4210560" y="5916960"/>
                <a:ext cx="2227320" cy="545760"/>
                <a:chOff x="4210560" y="5916960"/>
                <a:chExt cx="2227320" cy="54576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356720" y="5916960"/>
                  <a:ext cx="193392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210560" y="5916960"/>
                  <a:ext cx="222732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6438960" y="5916960"/>
                <a:ext cx="2692440" cy="545760"/>
                <a:chOff x="6438960" y="5916960"/>
                <a:chExt cx="2692440" cy="5457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585120" y="5916960"/>
                  <a:ext cx="239904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38960" y="5916960"/>
                  <a:ext cx="2692440" cy="5457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5" name=""/>
            <p:cNvSpPr/>
            <p:nvPr/>
          </p:nvSpPr>
          <p:spPr>
            <a:xfrm>
              <a:off x="0" y="457200"/>
              <a:ext cx="9143280" cy="60102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Term Symbols and X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762120" y="1143000"/>
            <a:ext cx="9906120" cy="54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IV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on in TiO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inal state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pole 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j=0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,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j’=0,1,2,3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=+1,0,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 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ransition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llowed final states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,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-762120" y="1143000"/>
            <a:ext cx="9906120" cy="53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i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on in NiO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inal state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pole 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, 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,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, 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j=4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-configuration: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,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DF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j’=0,1,2,3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-transitio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=+1,0,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ound state 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transition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llowed final states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,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4,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Term Symbols and X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Atomic multiplet calculations for Ni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762120"/>
            <a:ext cx="914400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</a:rPr>
              <a:t>als3ni2a.r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all initial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nd final state interactions set to zer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</a:rPr>
              <a:t>als3ni2b.r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only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the 2p spin-orbit coupling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(L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2p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is include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</a:rPr>
              <a:t>als3ni2c.r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LS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Verdana"/>
                <a:ea typeface="Times New Roman"/>
              </a:rPr>
              <a:t>2p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 and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 the Slater-Condon parameters are include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</a:rPr>
              <a:t>als3ni2d.rcg</a:t>
            </a:r>
            <a:r>
              <a:rPr b="0" lang="en-GB" sz="2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Also 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3d spin-orbit coupling is added in the initial state. This yields the full Ni</a:t>
            </a:r>
            <a:r>
              <a:rPr b="0" lang="en-GB" sz="2400" spc="-1" strike="noStrike" baseline="30000">
                <a:solidFill>
                  <a:srgbClr val="0000ff"/>
                </a:solidFill>
                <a:latin typeface="Verdana"/>
                <a:ea typeface="Times New Roman"/>
              </a:rPr>
              <a:t>2+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  <a:ea typeface="Times New Roman"/>
              </a:rPr>
              <a:t> calculation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154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3d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Arial"/>
              </a:rPr>
              <a:t>8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 XAS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83348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48680" y="167652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1600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743200" y="2133360"/>
            <a:ext cx="0" cy="1447560"/>
          </a:xfrm>
          <a:prstGeom prst="line">
            <a:avLst/>
          </a:prstGeom>
          <a:ln cap="sq"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2514600"/>
            <a:ext cx="1371600" cy="1219320"/>
          </a:xfrm>
          <a:prstGeom prst="line">
            <a:avLst/>
          </a:prstGeom>
          <a:ln cap="sq"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514920" y="3809880"/>
            <a:ext cx="18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F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, G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: &gt;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238880" y="2286000"/>
            <a:ext cx="0" cy="1447920"/>
          </a:xfrm>
          <a:prstGeom prst="line">
            <a:avLst/>
          </a:prstGeom>
          <a:ln cap="sq"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28600" y="838080"/>
            <a:ext cx="17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+LS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3d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: &gt;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93356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Atomic multipl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3356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609480" y="380880"/>
          <a:ext cx="8153640" cy="597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153640" cy="59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942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42000" y="765000"/>
            <a:ext cx="5064840" cy="124524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lement specific 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 specific 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ole selection rul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= ±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2160" y="228528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55800" y="338220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05520" y="4495680"/>
                <a:ext cx="3809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A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ε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25120" y="5997600"/>
            <a:ext cx="474048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40, 5715 (1989) / 48, 2074 (19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375080" cy="6324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73640" y="533520"/>
            <a:ext cx="4770360" cy="541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611760" y="2030400"/>
            <a:ext cx="197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iO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(rut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61120" y="4724280"/>
            <a:ext cx="247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iO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(anat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200400"/>
            <a:ext cx="4648320" cy="2653560"/>
          </a:xfrm>
          <a:prstGeom prst="rect">
            <a:avLst/>
          </a:prstGeom>
          <a:solidFill>
            <a:srgbClr val="cbcbcb"/>
          </a:solidFill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lement specific 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 specific 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re hol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plet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y body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-ray Absorption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867200" cy="4952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723920" y="838080"/>
            <a:ext cx="44197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AS probes empty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Hole pulls down 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nal State Ru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tral shape of XAS looks like final state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Initial State Ru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nsity of XAS is given by the initial st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23120" y="5486400"/>
            <a:ext cx="2501640" cy="82548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hys. Rev.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41, 11899 (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1320" y="5410080"/>
            <a:ext cx="4357080" cy="108108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ole selection rul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= ±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ment specific 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 specific 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3480" y="838080"/>
            <a:ext cx="90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TiSi</a:t>
            </a:r>
            <a:r>
              <a:rPr b="0" lang="en-US" sz="2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AS: core hole ef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004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219320"/>
            <a:ext cx="0" cy="5029200"/>
          </a:xfrm>
          <a:prstGeom prst="line">
            <a:avLst/>
          </a:prstGeom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105520"/>
            <a:ext cx="1143000" cy="0"/>
          </a:xfrm>
          <a:prstGeom prst="line">
            <a:avLst/>
          </a:prstGeom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502920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02920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095880"/>
            <a:ext cx="1143000" cy="0"/>
          </a:xfrm>
          <a:prstGeom prst="line">
            <a:avLst/>
          </a:prstGeom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601992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01992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502920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39440" y="4951440"/>
            <a:ext cx="766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029200"/>
            <a:ext cx="152640" cy="152280"/>
          </a:xfrm>
          <a:prstGeom prst="ellipse">
            <a:avLst/>
          </a:prstGeom>
          <a:solidFill>
            <a:srgbClr val="effff7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1219320"/>
            <a:ext cx="601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17f7"/>
                </a:solidFill>
                <a:latin typeface="Arial"/>
              </a:rPr>
              <a:t>Multiplet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trong overlap of 2p-core and 3d-valence wav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Particle model breaks 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to use atomic-like configu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17f7"/>
                </a:solidFill>
                <a:latin typeface="Arial"/>
              </a:rPr>
              <a:t>Charge Transf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re hole potential causes reordering of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981080"/>
            <a:ext cx="1904760" cy="0"/>
          </a:xfrm>
          <a:prstGeom prst="line">
            <a:avLst/>
          </a:prstGeom>
          <a:ln cap="sq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905120"/>
            <a:ext cx="15264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905120"/>
            <a:ext cx="15264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905120"/>
            <a:ext cx="15264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90512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190512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1905120"/>
            <a:ext cx="152280" cy="152280"/>
          </a:xfrm>
          <a:prstGeom prst="ellipse">
            <a:avLst/>
          </a:prstGeom>
          <a:solidFill>
            <a:srgbClr val="ff0000"/>
          </a:solidFill>
          <a:ln cap="sq" w="50760">
            <a:solidFill>
              <a:srgbClr val="e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2360" y="1446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209680"/>
            <a:ext cx="228600" cy="2590920"/>
          </a:xfrm>
          <a:prstGeom prst="upDownArrow">
            <a:avLst>
              <a:gd name="adj1" fmla="val 50000"/>
              <a:gd name="adj2" fmla="val 225627"/>
            </a:avLst>
          </a:prstGeom>
          <a:solidFill>
            <a:srgbClr val="00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990720" y="2133720"/>
            <a:ext cx="685800" cy="2743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048120"/>
            <a:ext cx="1676520" cy="825480"/>
          </a:xfrm>
          <a:prstGeom prst="rect">
            <a:avLst/>
          </a:prstGeom>
          <a:solidFill>
            <a:srgbClr val="cbcbcb"/>
          </a:solidFill>
          <a:ln cap="sq"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&lt;pd|1/r|pd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~ 10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60"/>
            <a:ext cx="9144000" cy="53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XAS: multiplets and char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16:21:10Z</dcterms:created>
  <dc:creator>F.M.F. de Groot</dc:creator>
  <dc:description/>
  <dc:language>en-US</dc:language>
  <cp:lastModifiedBy>Groot113</cp:lastModifiedBy>
  <cp:lastPrinted>2000-09-25T15:41:05Z</cp:lastPrinted>
  <dcterms:modified xsi:type="dcterms:W3CDTF">2007-02-13T16:01:50Z</dcterms:modified>
  <cp:revision>270</cp:revision>
  <dc:subject/>
  <dc:title>Company Overview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vsf1.phys.rug.nl/~degroot/</vt:lpwstr>
  </property>
  <property fmtid="{D5CDD505-2E9C-101B-9397-08002B2CF9AE}" pid="9" name="LinkColor">
    <vt:r8>16711782</vt:r8>
  </property>
  <property fmtid="{D5CDD505-2E9C-101B-9397-08002B2CF9AE}" pid="10" name="MailAddress">
    <vt:lpwstr>F.M.F.deGroot@chem.uu.nl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255</vt:r8>
  </property>
</Properties>
</file>